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56E3-E355-45B8-A21D-CBF70208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C45-57AC-4449-8C93-F878832B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AE0-D3D6-4483-A1CC-F6BA0CCE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BD2-032F-4A61-BC8D-7D24743D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25E-5180-4C68-A594-96BFA32B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2B3-D906-449C-B032-B386FB1C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F58-30F9-4E80-9F6D-70D86EDB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76D-1099-47AE-AAA9-EC1B01D8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57F-21D6-4196-9AEB-8459C2DC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73A-1E12-4A82-B8AC-28108031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E89-B82F-4B94-8DE4-22783427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B3F-043A-40C0-A4D1-0164C8CD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CEB8-FAEA-4757-8C4F-CF9818FB1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s.sfgate.com/c/pictures/2008/04/27/cm_mcclain663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opnews.in/uploads/pregnant-woman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orgecastro.org/married_coup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4.bp.blogspot.com/_5E_qiRhuut4/THlcnHd8vUI/AAAAAAAABPE/5XrvIiX9Q7g/s1600/Liar+Lia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xe9.xanga.com/7fbf602359536239288279/b1892697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ickthebrain.com/blog/wp-content/images/feeling_embarrassed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aflion.com/wp-content/uploads/2010/08/Cheating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521172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Scarlet Lett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Anticipation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ing a child without being married is as hard on the man as it is on the woman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" y="3505320"/>
            <a:ext cx="34261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one has good in him or her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See full size image"/>
          <p:cNvPicPr/>
          <p:nvPr/>
        </p:nvPicPr>
        <p:blipFill>
          <a:blip r:embed="rId1"/>
          <a:stretch/>
        </p:blipFill>
        <p:spPr>
          <a:xfrm>
            <a:off x="3124080" y="1752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REVENGE ever JUSTIFIED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    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s are private things and should never be told under any circumstances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True     Fa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5520" y="2590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unwed mother is unfit and should not be allowed to raise her child alone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05200" y="2259000"/>
            <a:ext cx="334332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legitimate children should be adopted by a traditional married couple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90840" y="2286000"/>
            <a:ext cx="2933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a person refuses to tell the truth, it is better to keep silent than to tell a lie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9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are 2 sides to every story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878120"/>
            <a:ext cx="51814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okay to let someone else take the blame for something you are responsible for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6576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embarrassing to be ridiculed by people.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971800"/>
            <a:ext cx="38098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don’t love your spouse, it is okay to cheat on them.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" y="2981160"/>
            <a:ext cx="47214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00:43Z</dcterms:created>
  <dc:creator>BPS</dc:creator>
  <dc:description/>
  <dc:language>en-US</dc:language>
  <cp:lastModifiedBy>BPS</cp:lastModifiedBy>
  <dcterms:modified xsi:type="dcterms:W3CDTF">2010-10-03T18:52:09Z</dcterms:modified>
  <cp:revision>13</cp:revision>
  <dc:subject/>
  <dc:title>Scarlet Letter  Anticipation Guide</dc:title>
</cp:coreProperties>
</file>